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FFB-C95F-4A49-AE5A-1BFF034B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6F7-D141-4BCB-A6CF-07BE488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AA1-856E-491D-9F23-1CFA77EB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3E0-90F3-4DB3-897E-FA5E858B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7408-45A9-4B29-B725-0D2DEC60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7CA9-56E1-4A9E-8CD0-B71C3FCC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3674-6BF4-4039-B208-18E2FE4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EB0B-1D1A-4AC1-A1A2-3AF4B6D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0446-8D3E-4576-9222-F69BCBE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CD86-DFF2-4ADD-90CA-7ED94592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B88E-2CCE-40AB-B163-062035EB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33D-56D7-42FE-A3DB-40303480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4EA7-2E63-4499-9434-C926D99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E73-BA7E-4300-BFEC-DD882E4E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02CA-3621-4676-9957-DE2F014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1328-A6EB-4275-9F28-AD583D25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32D8-71F6-4FC2-B188-F3251481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E64-AAE3-425D-8F93-A5D63433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FB9-363C-4373-B3C6-5171A50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B8E-5BE6-47AC-9D36-CD7C0A8E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A4A-8693-46DF-BBA9-5FFAB83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AF0-69A1-4A1C-ADB3-D225696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EF8-01EE-48F6-8355-8DF842F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5B43-EA1E-4E8D-9C33-CD196FE9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F68C-9F89-4FDA-85E6-616B3A9D7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FB7D-543D-42F4-8B8E-732C244C9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8153280" y="51055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6" descr="A2506_trombone_2col_1749"/>
          <p:cNvPicPr/>
          <p:nvPr/>
        </p:nvPicPr>
        <p:blipFill>
          <a:blip r:embed="rId3"/>
          <a:stretch/>
        </p:blipFill>
        <p:spPr>
          <a:xfrm>
            <a:off x="4495680" y="4038480"/>
            <a:ext cx="4267440" cy="173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380880" y="4630680"/>
            <a:ext cx="396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rombone’s mute absorbs some of the sound waves produced, thus producing a softer note when play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191120" y="5410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4"/>
          <a:stretch/>
        </p:blipFill>
        <p:spPr>
          <a:xfrm>
            <a:off x="7620120" y="990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  by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Travel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ore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quickly through solid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Sound is carried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o our ear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hrough vibrating air molecul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2362320" y="4545000"/>
            <a:ext cx="4038480" cy="2313000"/>
            <a:chOff x="2362320" y="4545000"/>
            <a:chExt cx="4038480" cy="2313000"/>
          </a:xfrm>
        </p:grpSpPr>
        <p:pic>
          <p:nvPicPr>
            <p:cNvPr id="89" name="Picture 10" descr="eardi"/>
            <p:cNvPicPr/>
            <p:nvPr/>
          </p:nvPicPr>
          <p:blipFill>
            <a:blip r:embed="rId2"/>
            <a:stretch/>
          </p:blipFill>
          <p:spPr>
            <a:xfrm>
              <a:off x="2362320" y="4545000"/>
              <a:ext cx="4038480" cy="231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0" name="AutoShape 7"/>
            <p:cNvSpPr/>
            <p:nvPr/>
          </p:nvSpPr>
          <p:spPr>
            <a:xfrm>
              <a:off x="3886200" y="6019920"/>
              <a:ext cx="1447560" cy="533160"/>
            </a:xfrm>
            <a:prstGeom prst="upArrowCallout">
              <a:avLst>
                <a:gd name="adj1" fmla="val 67883"/>
                <a:gd name="adj2" fmla="val 67876"/>
                <a:gd name="adj3" fmla="val 16667"/>
                <a:gd name="adj4" fmla="val 66660"/>
              </a:avLst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 Linotype"/>
                </a:rPr>
                <a:t>Middle Ear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Back and forth movement of molecule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3" name="Picture 5" descr="musicnoise"/>
          <p:cNvPicPr/>
          <p:nvPr/>
        </p:nvPicPr>
        <p:blipFill>
          <a:blip r:embed="rId2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diver"/>
          <p:cNvPicPr/>
          <p:nvPr/>
        </p:nvPicPr>
        <p:blipFill>
          <a:blip r:embed="rId3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here molecules are being pressed together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7" name="Picture 5" descr="1Fig2"/>
          <p:cNvPicPr/>
          <p:nvPr/>
        </p:nvPicPr>
        <p:blipFill>
          <a:blip r:embed="rId2"/>
          <a:stretch/>
        </p:blipFill>
        <p:spPr>
          <a:xfrm>
            <a:off x="4581360" y="2590920"/>
            <a:ext cx="4349880" cy="3504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04920" y="2057400"/>
            <a:ext cx="426708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wave travels through the springs just like sound waves travel through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places where the springs are close together are like compressions in the ai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ternating areas of high &amp; low pressur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move out in ALL direction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114300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avelengt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distance between one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art of a wave and the 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Frequency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4" name="Picture 9" descr="image001"/>
          <p:cNvPicPr/>
          <p:nvPr/>
        </p:nvPicPr>
        <p:blipFill>
          <a:blip r:embed="rId2"/>
          <a:stretch/>
        </p:blipFill>
        <p:spPr>
          <a:xfrm>
            <a:off x="495288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freq-wavelength"/>
          <p:cNvPicPr/>
          <p:nvPr/>
        </p:nvPicPr>
        <p:blipFill>
          <a:blip r:embed="rId3"/>
          <a:stretch/>
        </p:blipFill>
        <p:spPr>
          <a:xfrm>
            <a:off x="5410080" y="4419720"/>
            <a:ext cx="350532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2"/>
          <a:stretch/>
        </p:blipFill>
        <p:spPr>
          <a:xfrm>
            <a:off x="876240" y="3048120"/>
            <a:ext cx="7391520" cy="198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 measure of how high or low a sound i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depends on the frequency of a sound wave;  for example: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04920" y="5029200"/>
            <a:ext cx="31240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257800" y="5105520"/>
            <a:ext cx="36576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instrument that uses reflected sound waves to find underwater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3" name="Picture 5" descr="sonar"/>
          <p:cNvPicPr/>
          <p:nvPr/>
        </p:nvPicPr>
        <p:blipFill>
          <a:blip r:embed="rId2"/>
          <a:stretch/>
        </p:blipFill>
        <p:spPr>
          <a:xfrm>
            <a:off x="304920" y="2743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sonar"/>
          <p:cNvPicPr/>
          <p:nvPr/>
        </p:nvPicPr>
        <p:blipFill>
          <a:blip r:embed="rId3"/>
          <a:stretch/>
        </p:blipFill>
        <p:spPr>
          <a:xfrm>
            <a:off x="3124080" y="274320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sonar"/>
          <p:cNvPicPr/>
          <p:nvPr/>
        </p:nvPicPr>
        <p:blipFill>
          <a:blip r:embed="rId4"/>
          <a:stretch/>
        </p:blipFill>
        <p:spPr>
          <a:xfrm>
            <a:off x="6276960" y="4343400"/>
            <a:ext cx="265752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304920" y="48769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imals use sonar or echo location to find their prey; these sounds have such a high pitch or frequency that the human ear cannot hea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477120" y="25290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0:30Z</dcterms:created>
  <dc:creator>John Doe</dc:creator>
  <dc:description/>
  <cp:keywords/>
  <dc:language>en-US</dc:language>
  <cp:lastModifiedBy>St. Aloysius</cp:lastModifiedBy>
  <dcterms:modified xsi:type="dcterms:W3CDTF">2011-10-05T13:10:49Z</dcterms:modified>
  <cp:revision>52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